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E40F-0701-487F-A9A1-F92D0067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35EE-8193-48E1-B759-7B686A7D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2A89-E283-4D30-AF85-7FFF8398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8D5C-3156-4316-B164-BD1C7DD6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B831-0793-4333-AE28-8D2AE251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5BC3-98BF-4050-86A5-BA3F58BC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8E73-1594-437E-8259-59EED862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2522-0511-40E3-84CB-E7702269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58D8-C0D9-4B3D-9E27-F3F2DB4F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5718-688E-43F3-8061-9668CDA0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C8FD-7F2E-4DD7-A956-C5C8FDD6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4229-E5AD-4E69-A5AD-CCEE49B4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81EF-39BD-4401-B3C6-8BE0A743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7A5B-1EEC-4CC7-8811-C3B24B48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645D-DA2E-4576-BE37-7425599F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8CEA-6348-4860-8AE5-5726BFA8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41E1-9079-4E98-A58E-64EB1128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11C1-A55A-43C2-AC73-EA43A216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02AD-D76A-4D11-B9A0-8672BE53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709D-F850-4DDA-A291-671A4812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8411-ABB2-46BA-84D6-BDAEFB18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ED6C-62E1-4AE2-A8C9-E8FA38E1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B96D-13D9-4D0E-9967-C7E10DF6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E938-9CAE-4B23-9C43-E31D0954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3534-B3C6-4770-945D-394B165391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0FCF-15D7-49F5-AB88-4BC2DDBEAF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26370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Arial"/>
              </a:rPr>
              <a:t>МБОУ Шаталовская СШ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Без птиц невозможно </a:t>
            </a: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представить планету Земля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                        </a:t>
            </a: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Подготовила: Кирпиченкова О.А.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5107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Не король, а в короне, 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Не гусар, а при шпорах, 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На часы не взглядывает, 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А время показывает.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 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2781360"/>
            <a:ext cx="8540640" cy="33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908000" y="3068640"/>
            <a:ext cx="4896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Мать, отца не знаю, 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но часто называю, 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Детей знать не буду – 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чужим сбуду.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278100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547640" y="2997360"/>
            <a:ext cx="612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Днём спит, ночью летает, </a:t>
            </a:r>
            <a:br>
              <a:rPr sz="4400"/>
            </a:b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Прохожих пугает. 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2997360"/>
            <a:ext cx="8540640" cy="31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556000" y="2924280"/>
            <a:ext cx="33843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Это старый наш знакомый.</a:t>
            </a:r>
            <a:br>
              <a:rPr sz="3600"/>
            </a:b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Он живёт на крыше дома –</a:t>
            </a:r>
            <a:br>
              <a:rPr sz="3600"/>
            </a:b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Длинноногий, длиннохвостый,</a:t>
            </a:r>
            <a:br>
              <a:rPr sz="3600"/>
            </a:b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Длинношеий, безголосый,</a:t>
            </a:r>
            <a:br>
              <a:rPr sz="3600"/>
            </a:b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Он летает на охоту</a:t>
            </a:r>
            <a:br>
              <a:rPr sz="3600"/>
            </a:b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За лягушками к болоту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. 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3499920"/>
            <a:ext cx="854064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68360" y="3860640"/>
            <a:ext cx="424836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Интересные вопроси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0" cy="1962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203640" y="765000"/>
            <a:ext cx="2809800" cy="2048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940360" y="0"/>
            <a:ext cx="3029040" cy="2048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0" y="2997360"/>
            <a:ext cx="3076560" cy="2047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3419640" y="4005360"/>
            <a:ext cx="2733480" cy="2047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6048360" y="2924280"/>
            <a:ext cx="309564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3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9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3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3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3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3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3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2791080" cy="2048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300720" y="476280"/>
            <a:ext cx="3029040" cy="2047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95280" y="3645000"/>
            <a:ext cx="2733840" cy="2047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3132000" y="2349360"/>
            <a:ext cx="3076560" cy="2048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5796000" y="4005360"/>
            <a:ext cx="317196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3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1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" dur="3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1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3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3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3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3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403280" y="981000"/>
            <a:ext cx="6553440" cy="388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8028000" y="544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216876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Arial"/>
              </a:rPr>
              <a:t>Семь птиц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вочка устроила столовые для птиц. Во двор она вышла, убрала в углу мусор. Оказалось, тут удобное, вообще голое место. Кормила здесь крупных птиц колбасой, кашей. Другая столовая – высоко, лучше для мелких птичек, а над ней – ветки дерева. Только надо прибегать к лестнице, иначе четкая подкормка не получится, кормушку не доста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Заморочки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из бочки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ВИКТОРИН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540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Для чего дятел “барабанит”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клюв чисти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кому-то что-то сообща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музыкой увлека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Зачем страус голову в песок пряче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от страх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освобождается от парази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разыскивает пищ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Какая птица является чемпионом по нырянию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ут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гага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пингви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Почему у журавля рождается только один птенец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журавль откладывает только одно яйц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сильный птенец убивает слабого; (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птенец, вылупившийся первым, выбрасывает остальные яйца из гнез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2  МАРТ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072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Руси издавна отмечали праздник Жаворонки — день встречи весны. Звался этот день «Сороки». Сорок сороков. Сорок мучеников. Сорок святых. Было поверье, что на Сороки прилетает сорок птиц, что сорока начинает строить себе гнездо и кладет в него сорок палочек. На Сороки день с ночью равняется, наступает день весеннего равноденствия, и начинается настоящая вес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о традиции, к началу этого праздника, выпекали из теста вешних птичек. Жаворонков, скворцов, куликов. Птичек раздавали детям, и те с криком и звонким смехом бежали закликать жаворонков, а с ними и весну.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Узнай птицу по портрету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2895840" cy="2047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132000" y="0"/>
            <a:ext cx="2737080" cy="2066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5940360" y="0"/>
            <a:ext cx="3203640" cy="2003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250920" y="2205000"/>
            <a:ext cx="2952720" cy="1932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5759280" y="2205000"/>
            <a:ext cx="3384720" cy="2071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3059280" y="2565360"/>
            <a:ext cx="302400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пасибо за внимание.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ду новых встреч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ка! Пок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2971800" cy="2048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924360" y="620640"/>
            <a:ext cx="2448000" cy="2048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4067280" y="3645000"/>
            <a:ext cx="3448080" cy="2047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97992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На шесте – дворец, 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        Во дворце – певец, 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А зовут его…    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63640" y="227664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Всё время стучит, 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Деревья долбит,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 Но их не калечит,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А лечит.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2781360"/>
            <a:ext cx="8540640" cy="33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132000" y="2997360"/>
            <a:ext cx="252108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На одной ноге стоит, </a:t>
            </a:r>
            <a:br>
              <a:rPr sz="4400"/>
            </a:b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В воду пристально глядит, </a:t>
            </a:r>
            <a:br>
              <a:rPr sz="4400"/>
            </a:b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Тычет клювом наугад, </a:t>
            </a:r>
            <a:br>
              <a:rPr sz="4400"/>
            </a:b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Ищет в речке лягушат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.  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3428640"/>
            <a:ext cx="8540640" cy="26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63640" y="3500280"/>
            <a:ext cx="4969080" cy="29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Непоседа пёстрая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Птица длиннохвостая,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Птица говорливая,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Самая болтливая.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     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2997360"/>
            <a:ext cx="8540640" cy="31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619280" y="3068640"/>
            <a:ext cx="5257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51076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По лужку он важно бродит, 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Из воды сухим выходит, 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Носит красные ботинки, 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Дарит мягкие перинки.    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3284640"/>
            <a:ext cx="8540640" cy="28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79640" y="3573360"/>
            <a:ext cx="49687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22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Всех перелётных птиц черней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Чистит пашню от червей,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Взад-вперёд по пашне вскачь,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А зовётся птица…  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2923920"/>
            <a:ext cx="854064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92360" y="2852640"/>
            <a:ext cx="5688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4T18:39:18Z</dcterms:created>
  <dc:creator>Windows User</dc:creator>
  <dc:description/>
  <dc:language>en-US</dc:language>
  <cp:lastModifiedBy>Windows User</cp:lastModifiedBy>
  <dcterms:modified xsi:type="dcterms:W3CDTF">2016-03-31T17:41:52Z</dcterms:modified>
  <cp:revision>3</cp:revision>
  <dc:subject/>
  <dc:title>  Без птиц невозможно  представить планету Земля                              Подготовила: Кирпиченкова О.А.</dc:title>
</cp:coreProperties>
</file>