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DB28-0B20-4D31-B30E-9D7D0827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ABC8-12A3-4DC6-ABE1-61426175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2F2E-2E9A-4CFC-9CF8-1B246B65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9034-9029-451E-8213-EB6AA01C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BD85-603A-47E7-8E02-BF73DE33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7D56-23E9-46D5-93A8-8DF97C6D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4393-6685-45D8-8F10-78C79330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399F-330D-4593-85A8-2A5CD00B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9E16-E641-4429-9A39-F1F471B6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712D-39FD-46D9-B971-17AF827D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53EC-0301-455F-9B6E-8C17616F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DE91-94C2-40E9-AB02-4BAAAFA6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2090-718D-4965-95E0-F2229AA4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17DD-7554-47C5-8E8A-823EA5FC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A18B-C70E-4AC4-9ABC-38F0A81F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BD74-FB14-44FE-A345-FBD1CB150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24F5-B4FC-4F36-B02F-AE9A8546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F420-F5A7-4B79-BDC5-AFFED35B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A1C4-791F-45D9-A964-D7BFA1B9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824-28D8-4436-BD77-47F19CE0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30C9-EC96-4AC9-B9D8-A83AA36B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5BF-C313-4837-B216-C016641B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A33D-027B-48C8-8A36-8D1AD5D7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9665-7D5D-4FC4-8FD3-BDD45C23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94CD-D5CB-4ABF-AA8B-0CA161224A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FD6F-11B2-43D0-89C2-08EF68C534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26370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Arial"/>
              </a:rPr>
              <a:t>МБОУ Шаталовская СШ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Без птиц невозможно </a:t>
            </a: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представить планету Земля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                        </a:t>
            </a: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Подготовила: Кирпиченкова О.А.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51076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Не король, а в короне, 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Не гусар, а при шпорах, 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На часы не взглядывает, 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А время показывает.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 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2781360"/>
            <a:ext cx="8540640" cy="33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908000" y="3068640"/>
            <a:ext cx="4896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Мать, отца не знаю, 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но часто называю, 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Детей знать не буду – 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чужим сбуду.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278100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547640" y="2997360"/>
            <a:ext cx="612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Днём спит, ночью летает, </a:t>
            </a:r>
            <a:br>
              <a:rPr sz="4400"/>
            </a:b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Прохожих пугает. 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2997360"/>
            <a:ext cx="8540640" cy="31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33843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Это старый наш знакомый.</a:t>
            </a:r>
            <a:br>
              <a:rPr sz="3600"/>
            </a:b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Он живёт на крыше дома –</a:t>
            </a:r>
            <a:br>
              <a:rPr sz="3600"/>
            </a:b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Длинноногий, длиннохвостый,</a:t>
            </a:r>
            <a:br>
              <a:rPr sz="3600"/>
            </a:b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Длинношеий, безголосый,</a:t>
            </a:r>
            <a:br>
              <a:rPr sz="3600"/>
            </a:b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Он летает на охоту</a:t>
            </a:r>
            <a:br>
              <a:rPr sz="3600"/>
            </a:b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За лягушками к болоту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. 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3499920"/>
            <a:ext cx="854064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68360" y="3860640"/>
            <a:ext cx="424836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Интересные вопроси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0" cy="1962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203640" y="765000"/>
            <a:ext cx="2809800" cy="2048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940360" y="0"/>
            <a:ext cx="3029040" cy="2048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0" y="2997360"/>
            <a:ext cx="3076560" cy="2047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3419640" y="4005360"/>
            <a:ext cx="2733480" cy="2047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6048360" y="2924280"/>
            <a:ext cx="309564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3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3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3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3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3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3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2791080" cy="2048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300720" y="476280"/>
            <a:ext cx="3029040" cy="2047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95280" y="3645000"/>
            <a:ext cx="2733840" cy="2047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3132000" y="2349360"/>
            <a:ext cx="3076560" cy="2048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5796000" y="4005360"/>
            <a:ext cx="317196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3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3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1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3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3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3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3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403280" y="981000"/>
            <a:ext cx="6553440" cy="388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8028000" y="544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21687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Arial"/>
              </a:rPr>
              <a:t>Семь птиц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вочка устроила столовые для птиц. Во двор она вышла, убрала в углу мусор. Оказалось, тут удобное, вообще голое место. Кормила здесь крупных птиц колбасой, кашей. Другая столовая – высоко, лучше для мелких птичек, а над ней – ветки дерева. Только надо прибегать к лестнице, иначе четкая подкормка не получится, кормушку не доста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Заморочки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из бочки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ВИКТОРИН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540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Для чего дятел “барабанит”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клюв чисти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кому-то что-то сообща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музыкой увлека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Зачем страус голову в песок пряч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от стра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освобождается от парази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разыскивает пищ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Какая птица является чемпионом по нырянию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ут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гага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пингви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Почему у журавля рождается только один птенец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журавль откладывает только одно яйц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сильный птенец убивает слабого; (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птенец, вылупившийся первым, выбрасывает остальные яйца из гнез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2  МАРТ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072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Руси издавна отмечали праздник Жаворонки — день встречи весны. Звался этот день «Сороки». Сорок сороков. Сорок мучеников. Сорок святых. Было поверье, что на Сороки прилетает сорок птиц, что сорока начинает строить себе гнездо и кладет в него сорок палочек. На Сороки день с ночью равняется, наступает день весеннего равноденствия, и начинается настоящая вес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о традиции, к началу этого праздника, выпекали из теста вешних птичек. Жаворонков, скворцов, куликов. Птичек раздавали детям, и те с криком и звонким смехом бежали закликать жаворонков, а с ними и весну.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Узнай птицу по портрет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2895840" cy="2047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132000" y="0"/>
            <a:ext cx="2737080" cy="2066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5940360" y="0"/>
            <a:ext cx="3203640" cy="2003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250920" y="2205000"/>
            <a:ext cx="2952720" cy="1932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5759280" y="2205000"/>
            <a:ext cx="3384720" cy="2071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3059280" y="2565360"/>
            <a:ext cx="302400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пасибо за внимание.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ду новых встреч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а! Пок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2971800" cy="2048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924360" y="620640"/>
            <a:ext cx="2448000" cy="2048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067280" y="3645000"/>
            <a:ext cx="3448080" cy="2047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97992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На шесте – дворец, 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        Во дворце – певец, 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А зовут его…    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63640" y="227664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Всё время стучит, 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Деревья долбит,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 Но их не калечит,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А лечит.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2781360"/>
            <a:ext cx="8540640" cy="33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132000" y="2997360"/>
            <a:ext cx="25210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На одной ноге стоит, </a:t>
            </a:r>
            <a:br>
              <a:rPr sz="4400"/>
            </a:b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В воду пристально глядит, </a:t>
            </a:r>
            <a:br>
              <a:rPr sz="4400"/>
            </a:b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Тычет клювом наугад, </a:t>
            </a:r>
            <a:br>
              <a:rPr sz="4400"/>
            </a:b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Ищет в речке лягушат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.  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540640" cy="26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4969080" cy="29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Непоседа пёстрая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Птица длиннохвостая,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Птица говорливая,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Самая болтливая.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     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2997360"/>
            <a:ext cx="8540640" cy="31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19280" y="3068640"/>
            <a:ext cx="5257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51076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По лужку он важно бродит, 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Из воды сухим выходит, 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Носит красные ботинки, 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Дарит мягкие перинки.    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3284640"/>
            <a:ext cx="8540640" cy="28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79640" y="3573360"/>
            <a:ext cx="49687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22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Всех перелётных птиц черней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Чистит пашню от червей,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Взад-вперёд по пашне вскачь,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А зовётся птица…  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2923920"/>
            <a:ext cx="854064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92360" y="2852640"/>
            <a:ext cx="5688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4T18:39:18Z</dcterms:created>
  <dc:creator>Windows User</dc:creator>
  <dc:description/>
  <dc:language>en-US</dc:language>
  <cp:lastModifiedBy>Windows User</cp:lastModifiedBy>
  <dcterms:modified xsi:type="dcterms:W3CDTF">2016-03-31T17:41:52Z</dcterms:modified>
  <cp:revision>3</cp:revision>
  <dc:subject/>
  <dc:title>  Без птиц невозможно  представить планету Земля                              Подготовила: Кирпиченкова О.А.</dc:title>
</cp:coreProperties>
</file>